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970-2023-4AED-9B03-A715843A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83E-E751-4632-8686-91FCC90C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500-3127-46D6-B8CC-B5D170B4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913-EC36-41E4-95FA-ADCBAF7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623-6483-4009-8D10-6C5C648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333-2164-4196-955D-0251F2E5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59B-2D0B-4FC3-B353-46292FC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A0E-CFCC-4FBE-8D56-CFFCF45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56B-2430-4C70-A542-D8E0896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647-D936-446F-B6B8-99DDA48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0A5-C91F-473C-8DDD-9F073DA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DF8-087E-40BC-B5E8-8C1F5C1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777B-0E22-47DE-AB38-AEF403B377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57120" y="13572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m is set three pieces of homework each week. The probability of him asking his teacher for help is 0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5895720" cy="4077000"/>
          </a:xfrm>
          <a:prstGeom prst="rect">
            <a:avLst/>
          </a:prstGeom>
          <a:ln w="0">
            <a:noFill/>
          </a:ln>
        </p:spPr>
      </p:pic>
      <p:sp>
        <p:nvSpPr>
          <p:cNvPr id="44" name="Multiply 4"/>
          <p:cNvSpPr/>
          <p:nvPr/>
        </p:nvSpPr>
        <p:spPr>
          <a:xfrm>
            <a:off x="0" y="1857240"/>
            <a:ext cx="7429680" cy="5000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286680" y="26431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FE IS TOO SHORT FOR MORE TREE DIA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28760" y="150012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’s the probability of him asking all three times? Or none at al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, Ask, Ask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, Don’t, Don’t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ly one way to ha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sks Twice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, A, A’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, A’,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’, A,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ight Arrow Callout 5"/>
          <p:cNvSpPr/>
          <p:nvPr/>
        </p:nvSpPr>
        <p:spPr>
          <a:xfrm>
            <a:off x="3786120" y="4000680"/>
            <a:ext cx="1571760" cy="1357200"/>
          </a:xfrm>
          <a:prstGeom prst="rightArrowCallout">
            <a:avLst>
              <a:gd name="adj1" fmla="val 21206"/>
              <a:gd name="adj2" fmla="val 19847"/>
              <a:gd name="adj3" fmla="val 20261"/>
              <a:gd name="adj4" fmla="val 19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500800" y="4143240"/>
            <a:ext cx="33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each case, the probability 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0.8 x 0.8 x 0.2 = 0.03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are 3 ways it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 P(Asks Twice) = 3 x 0.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0.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60680" y="1687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14" y="4688"/>
                </a:moveTo>
                <a:lnTo>
                  <a:pt x="4614" y="46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28760" y="171468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I throw a biased coin, the chances of getting a head is 0.6. What is the probability that, if I throw the coin 6 times, I get exactly  4 hea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possibility, I have 4 heads (i.e. 4 “success”) and 2 tails (2 “failure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combination, P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for 3 heads, P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heads, P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combin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am selecting 4 heads from 6 possibilities. Remember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, P(X = 4) =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 0.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x 0.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lly: P(X = x) =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. 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. (1-p)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n-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/>
          <p:nvPr/>
        </p:nvCxnSpPr>
        <p:spPr>
          <a:xfrm flipV="1">
            <a:off x="3356640" y="5143320"/>
            <a:ext cx="572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 flipH="1" flipV="1">
            <a:off x="4357440" y="5357160"/>
            <a:ext cx="7200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9"/>
          <p:cNvCxnSpPr/>
          <p:nvPr/>
        </p:nvCxnSpPr>
        <p:spPr>
          <a:xfrm flipH="1" flipV="1">
            <a:off x="4857480" y="5357160"/>
            <a:ext cx="2865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TextBox 14"/>
          <p:cNvSpPr/>
          <p:nvPr/>
        </p:nvSpPr>
        <p:spPr>
          <a:xfrm>
            <a:off x="2500200" y="585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umber of tri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714840" y="6211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umber of suc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072040" y="60008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bability 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15:31Z</dcterms:created>
  <dc:creator>nh</dc:creator>
  <dc:description/>
  <dc:language>en-US</dc:language>
  <cp:lastModifiedBy>N Holden</cp:lastModifiedBy>
  <dcterms:modified xsi:type="dcterms:W3CDTF">2008-12-17T11:40:00Z</dcterms:modified>
  <cp:revision>10</cp:revision>
  <dc:subject/>
  <dc:title>Slide 1</dc:title>
</cp:coreProperties>
</file>